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50B1-5A7B-46BB-A0EA-2B8D2BF2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7EB6-1722-423A-A20B-2979474F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3DB6-905B-4144-90D3-5DBC6280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9360-E2E9-4F43-A36F-F69CB516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7E8D-66A1-4460-B64F-B6F7661A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D7DC-2751-4277-BE6C-1990EE03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B678-766A-48DC-84F9-54A7207B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2DC9-5113-47C6-8B20-DFD48964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4DBA-B502-478D-B6B6-D2680DBD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4631-EA0B-438C-B540-67AB43B5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35C0-5F0E-4220-9BA9-C9802A98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54D-94B9-4903-993D-1FBF2828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2D53-ECB2-4C87-A3B6-B6BF9983B1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1"/>
          <a:stretch/>
        </p:blipFill>
        <p:spPr>
          <a:xfrm>
            <a:off x="811080" y="506520"/>
            <a:ext cx="76010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ри батареи с эдс 12 В, 5 В и 10 В и одинаковыми внутренними сопротивлениями, равными 1 Ом, соединены между собой одноимёнными полюсами. Определить силы токов, идущих через каждую батаре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Лампочка и реостат, соединённые последовательно, присоединены к источнику тока. Напряжение на зажимах лампочки равно 40 В, сопротивление реостата равно 10 Ом. Внешняя цепь потребляет мощность 120 Вт. Найти силу тока в цеп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1428480"/>
            <a:ext cx="8258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Электрический ток – это упорядоченное движение заряженных части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 металлах такими частицами являются электроны, в жидкостях – положительные и отрицательные ионы, в газах – электроны и ионы (как положительные, так и отрицательны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стоянный ток – это ток, одинаковый во всех поперечных сечениях провод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еременный ток – это ток, изменяющийся со времен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ила тока -  это отношение заряда, прошедшего через поперечного сечение проводника, ко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лотность тока – это отношение силы тока к площади поперечного сечения провод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опротивление – это величина, характеризующая свойство материала препятствовать течению через него электрического т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оводимость – это величина, обратная электрическому сопротивл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дельное сопротивление – это сопротивление проводника единичной длины и единичной площади поперечного се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ощность – это отношение затраченной работы ко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форму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ила т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лотность т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опротивление однородного провод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висимость удельного сопротивление от температу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928800" cy="906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3786120" y="2714760"/>
            <a:ext cx="1071720" cy="1147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7143840" y="3786120"/>
            <a:ext cx="1325520" cy="10000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4"/>
          <a:stretch/>
        </p:blipFill>
        <p:spPr>
          <a:xfrm>
            <a:off x="3214800" y="5715000"/>
            <a:ext cx="28350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форму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абота т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ощность т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следовательное соединение провод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араллельное соединение провод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3500280" y="1857240"/>
            <a:ext cx="1357560" cy="5302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3571920" y="3071880"/>
            <a:ext cx="1139760" cy="5000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3429000" y="4214880"/>
            <a:ext cx="1395360" cy="7142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4"/>
          <a:stretch/>
        </p:blipFill>
        <p:spPr>
          <a:xfrm>
            <a:off x="3357720" y="5329080"/>
            <a:ext cx="17859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законы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(в интегральной форме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кон Ома для участка цеп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кон Ома для полной цеп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кон Джоуля-Лен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6072120" y="207180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5786280" y="3357720"/>
            <a:ext cx="1535400" cy="9284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0" descr=""/>
          <p:cNvPicPr/>
          <p:nvPr/>
        </p:nvPicPr>
        <p:blipFill>
          <a:blip r:embed="rId3"/>
          <a:stretch/>
        </p:blipFill>
        <p:spPr>
          <a:xfrm>
            <a:off x="3214800" y="5214960"/>
            <a:ext cx="14605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авила Кирхгоф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ервое правил: Алгебраическая сумма токов, сходящихся в узле равна нул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торое правило: В замкнутом контуре алгебраическая сумма напряжений на всех участках контура равна алгебраической сумме электродвижущих си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3571920" y="3000240"/>
            <a:ext cx="1258920" cy="7146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3429000" y="5572080"/>
            <a:ext cx="17701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ила тока в проводнике равномерно нарастает оделить заряд 0 до 3 А в течение времени 10 с. Определить заряд, прошедший в проводн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нутреннее сопротивление батареи аккумуляторов равна 3 Ом. Сколько процентов от точного значения ЭДС составляет погрешность, если, измеряя разность потенциалов на зажимах батареи вольтметром с сопротивлением 200 Ом, принять её равной эд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4:12:39Z</dcterms:created>
  <dc:creator>Михаил</dc:creator>
  <dc:description/>
  <dc:language>en-US</dc:language>
  <cp:lastModifiedBy>Михаил</cp:lastModifiedBy>
  <dcterms:modified xsi:type="dcterms:W3CDTF">2010-10-17T19:48:40Z</dcterms:modified>
  <cp:revision>15</cp:revision>
  <dc:subject/>
  <dc:title>Слайд 1</dc:title>
</cp:coreProperties>
</file>